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6A79-D226-4105-9BA1-410360C47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FA4E-B663-4770-B6E5-64EF9DA51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B3C8-1F22-4539-8663-ABDEAF49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8187-0CAE-4A07-93F0-D67E8FF8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40DD-3181-4EC3-98B3-3A6C6DA6B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5E56-42EC-4000-8247-1ED5BF56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215A-A97A-4449-A624-2A4F8EB1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A165-91D6-47A6-A035-D5D26D44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F3EB-FC57-4723-ADBE-0DC0E7C1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BC4D-409E-4B8E-9B70-56146437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10ED-2A5E-4D01-A3DA-689C7A04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3E8E-3EAF-45B5-B5CB-41035B9E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A44F-3E49-4982-A45D-12736D83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E6BC-919F-4D4D-864D-5363080F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980F-B3D9-40F6-9113-849B1CD03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arrah Shabb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3"/>
          <p:cNvSpPr/>
          <p:nvPr/>
        </p:nvSpPr>
        <p:spPr>
          <a:xfrm>
            <a:off x="152280" y="3352680"/>
            <a:ext cx="1600200" cy="85104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 nombres es Farrah.Yo tengo quince años.No tengo hermanas.Yo vivir es Astori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6"/>
          <p:cNvSpPr/>
          <p:nvPr/>
        </p:nvSpPr>
        <p:spPr>
          <a:xfrm>
            <a:off x="152280" y="4191120"/>
            <a:ext cx="1600200" cy="276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3" descr="Photo on 2011-10-21 at 13.48 #2.jpg"/>
          <p:cNvPicPr/>
          <p:nvPr/>
        </p:nvPicPr>
        <p:blipFill>
          <a:blip r:embed="rId1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79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7"/>
          <p:cNvSpPr/>
          <p:nvPr/>
        </p:nvSpPr>
        <p:spPr>
          <a:xfrm>
            <a:off x="350532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9" descr="Photo on 2011-10-21 at 13.53 #2.jpg"/>
          <p:cNvPicPr/>
          <p:nvPr/>
        </p:nvPicPr>
        <p:blipFill>
          <a:blip r:embed="rId2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2" descr="Photo on 2011-10-21 at 13.46.jpg"/>
          <p:cNvPicPr/>
          <p:nvPr/>
        </p:nvPicPr>
        <p:blipFill>
          <a:blip r:embed="rId3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3" descr="Photo on 2011-11-29 at 13.54.jpg"/>
          <p:cNvPicPr/>
          <p:nvPr/>
        </p:nvPicPr>
        <p:blipFill>
          <a:blip r:embed="rId4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91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1-30T14:58:25Z</dcterms:modified>
  <cp:revision>102</cp:revision>
  <dc:subject/>
  <dc:title>Profile</dc:title>
</cp:coreProperties>
</file>